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0.gif" ContentType="image/gif"/>
  <Override PartName="/ppt/media/image10.wmf" ContentType="image/x-wmf"/>
  <Override PartName="/ppt/media/image53.png" ContentType="image/png"/>
  <Override PartName="/ppt/media/image49.png" ContentType="image/png"/>
  <Override PartName="/ppt/media/image48.png" ContentType="image/png"/>
  <Override PartName="/ppt/media/image46.png" ContentType="image/png"/>
  <Override PartName="/ppt/media/image29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0.png" ContentType="image/png"/>
  <Override PartName="/ppt/media/image47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57.png" ContentType="image/png"/>
  <Override PartName="/ppt/media/image16.wmf" ContentType="image/x-wmf"/>
  <Override PartName="/ppt/media/image20.wmf" ContentType="image/x-wmf"/>
  <Override PartName="/ppt/media/image63.png" ContentType="image/png"/>
  <Override PartName="/ppt/media/image24.wmf" ContentType="image/x-wmf"/>
  <Override PartName="/ppt/media/image2.png" ContentType="image/png"/>
  <Override PartName="/ppt/media/image62.png" ContentType="image/png"/>
  <Override PartName="/ppt/media/image23.wmf" ContentType="image/x-wmf"/>
  <Override PartName="/ppt/media/image26.wmf" ContentType="image/x-wmf"/>
  <Override PartName="/ppt/media/image61.png" ContentType="image/png"/>
  <Override PartName="/ppt/media/image59.wmf" ContentType="image/x-wmf"/>
  <Override PartName="/ppt/media/image65.png" ContentType="image/png"/>
  <Override PartName="/ppt/media/image22.wmf" ContentType="image/x-wmf"/>
  <Override PartName="/ppt/media/image25.wmf" ContentType="image/x-wmf"/>
  <Override PartName="/ppt/media/image60.png" ContentType="image/png"/>
  <Override PartName="/ppt/media/image58.wmf" ContentType="image/x-wmf"/>
  <Override PartName="/ppt/media/image64.png" ContentType="image/png"/>
  <Override PartName="/ppt/media/image21.wmf" ContentType="image/x-wmf"/>
  <Override PartName="/ppt/media/image2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54.png" ContentType="image/png"/>
  <Override PartName="/ppt/media/image11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55.png" ContentType="image/png"/>
  <Override PartName="/ppt/media/image12.wmf" ContentType="image/x-wmf"/>
  <Override PartName="/ppt/media/image51.png" ContentType="image/png"/>
  <Override PartName="/ppt/media/image8.wmf" ContentType="image/x-wmf"/>
  <Override PartName="/ppt/media/image38.wmf" ContentType="image/x-wmf"/>
  <Override PartName="/ppt/media/image56.png" ContentType="image/png"/>
  <Override PartName="/ppt/media/image13.wmf" ContentType="image/x-wmf"/>
  <Override PartName="/ppt/media/image52.png" ContentType="image/png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4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A23-73DC-4368-A56B-F7AB7BA3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D5FD-8B5D-44FD-86A4-6BC55766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A25-3C5E-4736-86E0-C4C7E436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582A-BEFD-4A87-B404-0D80778C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8D9-A71E-48C7-B55A-B1A85A2B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B0C-7AD3-4C76-9E2C-B40A2043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DFA-9B0A-476C-90C3-BED2F322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3FF3-7673-465C-BDFA-C193AA55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BE4-D661-4176-BC83-64EB178F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F55B-6719-495D-AE7C-69215B78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D21-69A5-46AD-9790-D0DC38DD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BF8-9A3A-4F8F-BB0F-63520437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4D1B-D629-4B81-83F5-B55B8CAD9A5E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560D-DCAC-457C-A915-5AB3710DF0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2.wmf"/><Relationship Id="rId1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e5ffff"/>
                </a:solidFill>
                <a:latin typeface="Tahoma"/>
              </a:rPr>
              <a:t>Азотсодержащие органические соединения. Амины. Аминокислоты. Белки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246-EBD5-4EE2-BEA9-CAC1047445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286E-F4F9-4CDC-8452-2D4A2D1AB71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Кислотно-основные свойства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3" name="Object 5"/>
          <p:cNvGraphicFramePr/>
          <p:nvPr/>
        </p:nvGraphicFramePr>
        <p:xfrm>
          <a:off x="755640" y="1989000"/>
          <a:ext cx="3692520" cy="177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989000"/>
                    <a:ext cx="369252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4859280" y="1844640"/>
          <a:ext cx="3673440" cy="209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9280" y="1844640"/>
                    <a:ext cx="367344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9"/>
          <p:cNvSpPr/>
          <p:nvPr/>
        </p:nvSpPr>
        <p:spPr>
          <a:xfrm>
            <a:off x="971640" y="407664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ионная форма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деализированная аминокисло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03640" y="40766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виттер-ион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минокислота в твердом состоя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598-1542-4FB7-B3C9-06154E5F48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9F4A-1597-41FE-B634-B234A1A97A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Изоэлектрическая точка (р</a:t>
            </a:r>
            <a:r>
              <a:rPr b="0" i="1" lang="en-US" sz="3600" spc="-1" strike="noStrike">
                <a:solidFill>
                  <a:srgbClr val="e5ffff"/>
                </a:solidFill>
                <a:latin typeface="Tahoma"/>
              </a:rPr>
              <a:t>I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403280" y="1989000"/>
            <a:ext cx="67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электрической точкой называется такое значени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имеющее определенное значение для каждой аминокислоты, при котором содержание диполярного иона (цвиттер-иона) максима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364-08D6-438E-9B6D-DAC3C380B5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59FC-EB71-4190-8B09-BDFCBA2984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пособы получения аминокислот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i="1" lang="ru-RU" sz="2400" spc="-1" strike="noStrike">
                <a:solidFill>
                  <a:srgbClr val="e5ffff"/>
                </a:solidFill>
                <a:latin typeface="Tahoma"/>
              </a:rPr>
              <a:t>Аминирование </a:t>
            </a:r>
            <a:r>
              <a:rPr b="0" i="1" lang="ru-RU" sz="2400" spc="-1" strike="noStrike">
                <a:solidFill>
                  <a:srgbClr val="e5ffff"/>
                </a:solidFill>
                <a:latin typeface="Symbol"/>
                <a:ea typeface="Symbol"/>
              </a:rPr>
              <a:t></a:t>
            </a:r>
            <a:r>
              <a:rPr b="0" i="1" lang="ru-RU" sz="2400" spc="-1" strike="noStrike">
                <a:solidFill>
                  <a:srgbClr val="e5ffff"/>
                </a:solidFill>
                <a:latin typeface="Tahoma"/>
              </a:rPr>
              <a:t>-галогензамещенных кислот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108000" y="3357720"/>
          <a:ext cx="8893080" cy="13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3357720"/>
                    <a:ext cx="88930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3EE-6C5A-45AA-8234-8D83FE9D6E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567E-04E9-4172-8730-DE9502677B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пособы получения аминокислот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i="1" lang="ru-RU" sz="2400" spc="-1" strike="noStrike">
                <a:solidFill>
                  <a:srgbClr val="e5ffff"/>
                </a:solidFill>
                <a:latin typeface="Tahoma"/>
              </a:rPr>
              <a:t>Бромирование при помощи малоновой кислоты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900000" y="1989000"/>
          <a:ext cx="8280360" cy="19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989000"/>
                    <a:ext cx="8280360" cy="19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7"/>
          <p:cNvGraphicFramePr/>
          <p:nvPr/>
        </p:nvGraphicFramePr>
        <p:xfrm>
          <a:off x="1044720" y="4221000"/>
          <a:ext cx="6696000" cy="178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4720" y="4221000"/>
                    <a:ext cx="669600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289-C372-47FB-96CD-046BED1B51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B63C-47BD-4C37-B32D-C15A5D29A4A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пособы получения аминокислот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i="1" lang="ru-RU" sz="2400" spc="-1" strike="noStrike">
                <a:solidFill>
                  <a:srgbClr val="e5ffff"/>
                </a:solidFill>
                <a:latin typeface="Tahoma"/>
              </a:rPr>
              <a:t>Синтез Штреккера–Зелинского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511200" y="1989000"/>
          <a:ext cx="644040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1200" y="1989000"/>
                    <a:ext cx="6440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12"/>
          <p:cNvGraphicFramePr/>
          <p:nvPr/>
        </p:nvGraphicFramePr>
        <p:xfrm>
          <a:off x="511200" y="2565360"/>
          <a:ext cx="4713120" cy="5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1200" y="2565360"/>
                    <a:ext cx="471312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4"/>
          <p:cNvGraphicFramePr/>
          <p:nvPr/>
        </p:nvGraphicFramePr>
        <p:xfrm>
          <a:off x="511200" y="3071880"/>
          <a:ext cx="7775640" cy="1581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9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1200" y="3071880"/>
                    <a:ext cx="777564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6"/>
          <p:cNvGraphicFramePr/>
          <p:nvPr/>
        </p:nvGraphicFramePr>
        <p:xfrm>
          <a:off x="1187280" y="4797360"/>
          <a:ext cx="6409080" cy="1946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1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87280" y="4797360"/>
                    <a:ext cx="6409080" cy="19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D4C-264F-4531-8407-713C927995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2B4D-6420-4B7F-A9F4-3EAB56978F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пособы получения аминокислот</a:t>
            </a: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килировани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мещенных аминомалоновых эфир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минирование эфиров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галоген-замещенных кислот (с помощью фталимида кал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B94-549F-483C-AA9E-8F25C18FC2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2D03-38BE-4687-8901-3C1BED9606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3148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пособы получения аминокислот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Б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иологический способ получения аминокислот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Picture 4" descr="animal066"/>
          <p:cNvPicPr/>
          <p:nvPr/>
        </p:nvPicPr>
        <p:blipFill>
          <a:blip r:embed="rId2"/>
          <a:stretch/>
        </p:blipFill>
        <p:spPr>
          <a:xfrm>
            <a:off x="3276720" y="1916280"/>
            <a:ext cx="3240000" cy="20253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2"/>
          <p:cNvSpPr/>
          <p:nvPr/>
        </p:nvSpPr>
        <p:spPr>
          <a:xfrm>
            <a:off x="900000" y="3500280"/>
            <a:ext cx="2735280" cy="1943280"/>
          </a:xfrm>
          <a:prstGeom prst="cloudCallout">
            <a:avLst>
              <a:gd name="adj1" fmla="val -52726"/>
              <a:gd name="adj2" fmla="val 8171"/>
            </a:avLst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м с добавкой рацемической смеси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минокисло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6300720" y="2781360"/>
            <a:ext cx="2772000" cy="1944720"/>
          </a:xfrm>
          <a:prstGeom prst="wedgeEllipseCallout">
            <a:avLst>
              <a:gd name="adj1" fmla="val -30699"/>
              <a:gd name="adj2" fmla="val 8611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ходы с оптически активным изомером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минокисл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14"/>
          <p:cNvSpPr/>
          <p:nvPr/>
        </p:nvSpPr>
        <p:spPr>
          <a:xfrm flipH="1">
            <a:off x="6804000" y="4724280"/>
            <a:ext cx="720720" cy="505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15"/>
          <p:cNvSpPr/>
          <p:nvPr/>
        </p:nvSpPr>
        <p:spPr>
          <a:xfrm>
            <a:off x="5435640" y="5157720"/>
            <a:ext cx="1368360" cy="432000"/>
          </a:xfrm>
          <a:prstGeom prst="wedgeRectCallout">
            <a:avLst>
              <a:gd name="adj1" fmla="val -19027"/>
              <a:gd name="adj2" fmla="val 29777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чист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16"/>
          <p:cNvSpPr/>
          <p:nvPr/>
        </p:nvSpPr>
        <p:spPr>
          <a:xfrm flipH="1">
            <a:off x="4714920" y="5516640"/>
            <a:ext cx="720720" cy="287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700360" y="5734080"/>
            <a:ext cx="2016000" cy="934920"/>
          </a:xfrm>
          <a:prstGeom prst="wedgeRectCallout">
            <a:avLst>
              <a:gd name="adj1" fmla="val 5986"/>
              <a:gd name="adj2" fmla="val -381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тически чистый изомер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минокисл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998F-A031-4F1B-A995-0F19A0C087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C8F9-A7FF-4D52-85FC-1B3EDEC4DB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93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5ffff"/>
                </a:solidFill>
                <a:latin typeface="Tahoma"/>
              </a:rPr>
              <a:t>Химические свойства аминокислот</a:t>
            </a:r>
            <a:br>
              <a:rPr sz="2800"/>
            </a:br>
            <a:br>
              <a:rPr sz="28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Реакции аминогруппы</a:t>
            </a: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6" name="Object 8"/>
          <p:cNvGraphicFramePr/>
          <p:nvPr/>
        </p:nvGraphicFramePr>
        <p:xfrm>
          <a:off x="826920" y="2565360"/>
          <a:ext cx="7993080" cy="168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565360"/>
                    <a:ext cx="7993080" cy="16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10"/>
          <p:cNvSpPr/>
          <p:nvPr/>
        </p:nvSpPr>
        <p:spPr>
          <a:xfrm>
            <a:off x="971640" y="4832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Метод Ван-Слай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D0E-D2D8-4124-AC61-EFCFA8F1F0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7C3A-A408-4828-8CDE-4AA1DC1FE6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77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5ffff"/>
                </a:solidFill>
                <a:latin typeface="Tahoma"/>
              </a:rPr>
              <a:t>Химические свойства аминокислот</a:t>
            </a:r>
            <a:br>
              <a:rPr sz="2800"/>
            </a:br>
            <a:br>
              <a:rPr sz="28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Реакции аминогруппы</a:t>
            </a: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1" name="Object 6"/>
          <p:cNvGraphicFramePr/>
          <p:nvPr/>
        </p:nvGraphicFramePr>
        <p:xfrm>
          <a:off x="755640" y="2349360"/>
          <a:ext cx="7848720" cy="307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349360"/>
                    <a:ext cx="784872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8EC-455A-4BA2-8277-92E8E59149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DD79-BD3B-45F3-B6E9-D87F28C22F8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898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Химические свойства аминокислот</a:t>
            </a:r>
            <a:br>
              <a:rPr sz="28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Реакции карбоксильной группы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5" name="Object 5"/>
          <p:cNvGraphicFramePr/>
          <p:nvPr/>
        </p:nvGraphicFramePr>
        <p:xfrm>
          <a:off x="1547640" y="1700280"/>
          <a:ext cx="6481800" cy="50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700280"/>
                    <a:ext cx="6481800" cy="50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835-63CD-41E4-B886-75FC65868A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10FB-FCC2-49DC-A453-10CE771446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03280" y="836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троени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 сво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68360" y="5516640"/>
            <a:ext cx="52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Спирали встречаются во многих областях: в архитектуре, в макромолекулах белков, нуклеиновых кислот и даже в полисахарида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tretch/>
        </p:blipFill>
        <p:spPr>
          <a:xfrm>
            <a:off x="5940360" y="2421000"/>
            <a:ext cx="2632320" cy="3938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3"/>
          <a:stretch/>
        </p:blipFill>
        <p:spPr>
          <a:xfrm>
            <a:off x="4067280" y="2421000"/>
            <a:ext cx="1562040" cy="2857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4"/>
          <a:stretch/>
        </p:blipFill>
        <p:spPr>
          <a:xfrm>
            <a:off x="900000" y="2492280"/>
            <a:ext cx="2737080" cy="27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3F5-33D0-4976-97FB-A59C72A8A5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CD46-0142-406D-9E0B-98B8E6EBA1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898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Химические свойства аминокислот</a:t>
            </a:r>
            <a:br>
              <a:rPr sz="28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Реакции карбоксильной группы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9" name="Object 5"/>
          <p:cNvGraphicFramePr/>
          <p:nvPr/>
        </p:nvGraphicFramePr>
        <p:xfrm>
          <a:off x="684360" y="2133720"/>
          <a:ext cx="769752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133720"/>
                    <a:ext cx="76975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7"/>
          <p:cNvGraphicFramePr/>
          <p:nvPr/>
        </p:nvGraphicFramePr>
        <p:xfrm>
          <a:off x="539640" y="4221000"/>
          <a:ext cx="8172720" cy="139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2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4221000"/>
                    <a:ext cx="817272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404-7F4B-49D8-8025-73EC4C8524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5D77-D48A-4271-AA6E-E5541276C3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898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Химические свойства аминокислот</a:t>
            </a:r>
            <a:br>
              <a:rPr sz="28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Качественные реакции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75" name="Object 7"/>
          <p:cNvGraphicFramePr/>
          <p:nvPr/>
        </p:nvGraphicFramePr>
        <p:xfrm>
          <a:off x="971640" y="2421000"/>
          <a:ext cx="7129440" cy="424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421000"/>
                    <a:ext cx="712944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9"/>
          <p:cNvSpPr/>
          <p:nvPr/>
        </p:nvSpPr>
        <p:spPr>
          <a:xfrm>
            <a:off x="843120" y="177336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сантопротеиновая реакц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EBA-71E3-431B-B1E4-458FB08AD0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5D4D-A346-46A5-851E-545ECB06E4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969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Химические свойства аминокислот</a:t>
            </a:r>
            <a:br>
              <a:rPr sz="28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Качественные реакции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971640" y="1916280"/>
            <a:ext cx="72007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иуретовая реак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гидроксидом меди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u(OH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нгидринная реак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4932360" y="3500280"/>
          <a:ext cx="28386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3500280"/>
                    <a:ext cx="28386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97C-9407-427A-8785-DCCDA98DD8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204D-0F2B-4DDC-9670-BF5987EBBF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Химические свойства аминокислот</a:t>
            </a:r>
            <a:br>
              <a:rPr sz="28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Специфические реакции </a:t>
            </a:r>
            <a:r>
              <a:rPr b="0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-аминокислот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042920" y="1989000"/>
            <a:ext cx="50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Реакции </a:t>
            </a:r>
            <a:r>
              <a:rPr b="1" lang="en-US" sz="2000" spc="-1" strike="noStrike">
                <a:solidFill>
                  <a:srgbClr val="e5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-аминокисло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6" name="Object 11"/>
          <p:cNvGraphicFramePr/>
          <p:nvPr/>
        </p:nvGraphicFramePr>
        <p:xfrm>
          <a:off x="179280" y="2917800"/>
          <a:ext cx="8785440" cy="245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917800"/>
                    <a:ext cx="878544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C86-C218-431C-B041-5DF10CFC61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895C-FADE-429A-AE66-9070DDBAB1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8976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Химические свойства аминокислот</a:t>
            </a:r>
            <a:br>
              <a:rPr sz="32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Специфические реакции </a:t>
            </a:r>
            <a:r>
              <a:rPr b="0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-аминокислот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900000" y="198900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Реакции </a:t>
            </a:r>
            <a:r>
              <a:rPr b="1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-аминокисло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1" name="Object 6"/>
          <p:cNvGraphicFramePr/>
          <p:nvPr/>
        </p:nvGraphicFramePr>
        <p:xfrm>
          <a:off x="1042920" y="2924280"/>
          <a:ext cx="7489800" cy="206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924280"/>
                    <a:ext cx="7489800" cy="20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706-7748-4220-9EB3-9932D0C436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8978-B33C-4466-8D2A-D0E92FB43F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898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Химические свойства аминокислот</a:t>
            </a:r>
            <a:br>
              <a:rPr sz="28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Специфические реакции </a:t>
            </a:r>
            <a:r>
              <a:rPr b="0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-аминокислот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900000" y="184464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Реакции </a:t>
            </a:r>
            <a:r>
              <a:rPr b="1" i="1" lang="en-US" sz="2400" spc="-1" strike="noStrike">
                <a:solidFill>
                  <a:srgbClr val="e5ffff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-аминокисло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6" name="Object 6"/>
          <p:cNvGraphicFramePr/>
          <p:nvPr/>
        </p:nvGraphicFramePr>
        <p:xfrm>
          <a:off x="973080" y="2565360"/>
          <a:ext cx="7920000" cy="355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3080" y="2565360"/>
                    <a:ext cx="792000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460-4D87-4D04-AA29-60BFB388D3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ABDA-946F-4A91-8307-6BC23DDB91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042920" y="184464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ептиды — соединения, построенные из нескольких остатков 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-аминокислот, связанных амидной (пептидной) связью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2" name="Object 8"/>
          <p:cNvGraphicFramePr/>
          <p:nvPr/>
        </p:nvGraphicFramePr>
        <p:xfrm>
          <a:off x="3419640" y="4797360"/>
          <a:ext cx="252072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4797360"/>
                    <a:ext cx="252072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41A-07AA-4AFF-9FDC-05B80A68E81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DDAE-0218-43E1-81AF-FF6FCC910F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06" name="Object 7"/>
          <p:cNvGraphicFramePr/>
          <p:nvPr/>
        </p:nvGraphicFramePr>
        <p:xfrm>
          <a:off x="539640" y="1628640"/>
          <a:ext cx="817272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628640"/>
                    <a:ext cx="817272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9" name="Object 9"/>
          <p:cNvGraphicFramePr/>
          <p:nvPr/>
        </p:nvGraphicFramePr>
        <p:xfrm>
          <a:off x="900000" y="2997360"/>
          <a:ext cx="6985080" cy="341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0000" y="2997360"/>
                    <a:ext cx="69850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80F-B981-4C45-A7AE-FE64FD1736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3C56-A4A3-462E-AABE-0EC8FD436F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8" descr="image004"/>
          <p:cNvPicPr/>
          <p:nvPr/>
        </p:nvPicPr>
        <p:blipFill>
          <a:blip r:embed="rId2"/>
          <a:stretch/>
        </p:blipFill>
        <p:spPr>
          <a:xfrm>
            <a:off x="1116000" y="1268280"/>
            <a:ext cx="3613320" cy="54738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5219640" y="53737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СЛЕДОВАТЕЛЬНОЕ СОЕДИНЕНИЕ АМИНОКИСЛО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90F-AE77-4D2C-81A6-4BA8C059D6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C869-A134-41C4-9E1D-54F097B673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9" name="Object 6"/>
          <p:cNvGraphicFramePr/>
          <p:nvPr/>
        </p:nvGraphicFramePr>
        <p:xfrm>
          <a:off x="611280" y="2060640"/>
          <a:ext cx="810108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060640"/>
                    <a:ext cx="810108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72A3-87D2-4451-86B1-EFB623ADBA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7D14-DB80-4D4B-A130-4B5CB3FB5C1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минокисло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53320" cy="19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оединение, которое содержит одновременно и кислотную функциональную группу, и аминогруппу, является аминокислот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2627280" y="4221000"/>
          <a:ext cx="4321080" cy="18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4221000"/>
                    <a:ext cx="4321080" cy="18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4BD-AC70-4CCC-B51E-18BD595AE4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03DC-1968-417E-AADE-EBBD603E48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7" descr="1840_302"/>
          <p:cNvPicPr/>
          <p:nvPr/>
        </p:nvPicPr>
        <p:blipFill>
          <a:blip r:embed="rId2"/>
          <a:stretch/>
        </p:blipFill>
        <p:spPr>
          <a:xfrm>
            <a:off x="1403280" y="1268280"/>
            <a:ext cx="6480360" cy="48722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1403280" y="630864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вичная структура белка инсули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BAA2-DFD2-4B37-AD11-4890B71085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A793-0915-4FE1-BAD8-F13740A5AF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187280" y="2205000"/>
            <a:ext cx="7129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6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ервичная структура пептидов и белков — это последовательность аминокислотных остатков в полипептидной цепи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144F-4708-4F74-9143-ED2DC8B6A3F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6FD8-B6AA-4927-A272-3B5DE73FC7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5" descr="16_2"/>
          <p:cNvPicPr/>
          <p:nvPr/>
        </p:nvPicPr>
        <p:blipFill>
          <a:blip r:embed="rId2"/>
          <a:stretch/>
        </p:blipFill>
        <p:spPr>
          <a:xfrm>
            <a:off x="1042920" y="1773360"/>
            <a:ext cx="6985080" cy="490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56E4-CED6-4983-AC64-5C15F7D305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F988-17BB-4623-A1F4-F291CB44FE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5" descr="16_3"/>
          <p:cNvPicPr/>
          <p:nvPr/>
        </p:nvPicPr>
        <p:blipFill>
          <a:blip r:embed="rId2"/>
          <a:stretch/>
        </p:blipFill>
        <p:spPr>
          <a:xfrm>
            <a:off x="971640" y="1916280"/>
            <a:ext cx="7345440" cy="479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8C9-BCC2-411A-88EB-5D9EB61156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C926-77B2-48CA-9252-5998AA1610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6" descr="1840_303"/>
          <p:cNvPicPr/>
          <p:nvPr/>
        </p:nvPicPr>
        <p:blipFill>
          <a:blip r:embed="rId2"/>
          <a:stretch/>
        </p:blipFill>
        <p:spPr>
          <a:xfrm>
            <a:off x="900000" y="1484280"/>
            <a:ext cx="7302600" cy="43974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900000" y="587700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РАЗОВАНИЕ ВНУТРИМОЛЕКУЛЯРНЫХ ВОДОРОДНЫХ СВЯЗЕ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(изображены пунктирными линиями) в молекуле полипепти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A94-FF43-497C-9361-2ADDD04262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77B5-1DFE-4946-93BF-2CF816E324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Picture 4" descr="1840_304"/>
          <p:cNvPicPr/>
          <p:nvPr/>
        </p:nvPicPr>
        <p:blipFill>
          <a:blip r:embed="rId2"/>
          <a:stretch/>
        </p:blipFill>
        <p:spPr>
          <a:xfrm>
            <a:off x="1042920" y="1844640"/>
            <a:ext cx="7345440" cy="41673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18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2920" y="616572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1042920" y="6093000"/>
            <a:ext cx="748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ОБЪЕМНАЯ МОДЕЛЬ МОЛЕКУЛЫ БЕЛКА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в форме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спирали. Водородные связи показаны зелеными пунктирными линия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91D-DE83-4B07-BB0F-A1F59C7CE17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A7E2-B213-4CD7-83A4-C8C43DECA9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6" descr="16_4"/>
          <p:cNvPicPr/>
          <p:nvPr/>
        </p:nvPicPr>
        <p:blipFill>
          <a:blip r:embed="rId2"/>
          <a:stretch/>
        </p:blipFill>
        <p:spPr>
          <a:xfrm>
            <a:off x="1116000" y="1844640"/>
            <a:ext cx="2822760" cy="48974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8"/>
          <p:cNvSpPr/>
          <p:nvPr/>
        </p:nvSpPr>
        <p:spPr>
          <a:xfrm>
            <a:off x="4500720" y="5445000"/>
            <a:ext cx="29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спираль молекулы бел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BB0-174E-48F0-93FE-896095F083D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03AF-478A-4C1E-B836-4D518A6F1D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11" descr="1840_305"/>
          <p:cNvPicPr/>
          <p:nvPr/>
        </p:nvPicPr>
        <p:blipFill>
          <a:blip r:embed="rId2"/>
          <a:stretch/>
        </p:blipFill>
        <p:spPr>
          <a:xfrm>
            <a:off x="1189080" y="1700280"/>
            <a:ext cx="6767640" cy="444636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2"/>
          <p:cNvSpPr/>
          <p:nvPr/>
        </p:nvSpPr>
        <p:spPr>
          <a:xfrm>
            <a:off x="1042920" y="6237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АРАЛЛЕЛЬНАЯ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СТРУКТУР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состоящая из трех полипептидных молеку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1B1-F627-4689-9A9C-229AC74D853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E0BC-E827-42BC-B5D3-FE4344122F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042920" y="6237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НТИПАРАЛЛЕЛЬНАЯ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СТРУКТУР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состоящая из трех полипептидных молеку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6" descr="1840_306"/>
          <p:cNvPicPr/>
          <p:nvPr/>
        </p:nvPicPr>
        <p:blipFill>
          <a:blip r:embed="rId2"/>
          <a:stretch/>
        </p:blipFill>
        <p:spPr>
          <a:xfrm>
            <a:off x="950760" y="1773360"/>
            <a:ext cx="7293240" cy="43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75F-2DEA-4027-9915-96CCBA1F2DF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D3E8-DB22-45ED-9E99-0512542547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042920" y="609300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БРАЗОВАНИЕ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СТРУКТУР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внутри одной полипептидной цеп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6" descr="1840_307"/>
          <p:cNvPicPr/>
          <p:nvPr/>
        </p:nvPicPr>
        <p:blipFill>
          <a:blip r:embed="rId2"/>
          <a:stretch/>
        </p:blipFill>
        <p:spPr>
          <a:xfrm>
            <a:off x="1258920" y="1916280"/>
            <a:ext cx="6769080" cy="406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E86-079B-4981-8D91-F819638DC11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4A6A-1BAB-4A4A-A333-822DE5CED9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30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35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Rectangle 50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55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Rectangle 60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65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75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80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Rectangle 85"/>
          <p:cNvSpPr/>
          <p:nvPr/>
        </p:nvSpPr>
        <p:spPr>
          <a:xfrm>
            <a:off x="0" y="-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8000" y="260280"/>
          <a:ext cx="8856720" cy="6623280"/>
        </p:xfrm>
        <a:graphic>
          <a:graphicData uri="http://schemas.openxmlformats.org/drawingml/2006/table">
            <a:tbl>
              <a:tblPr/>
              <a:tblGrid>
                <a:gridCol w="2663640"/>
                <a:gridCol w="2449800"/>
                <a:gridCol w="2909880"/>
                <a:gridCol w="833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кращ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уктурная форму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I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иц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ан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л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йц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л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нилалан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птоф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Object 430"/>
          <p:cNvGraphicFramePr/>
          <p:nvPr/>
        </p:nvGraphicFramePr>
        <p:xfrm>
          <a:off x="5640480" y="1225440"/>
          <a:ext cx="2168280" cy="42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4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40480" y="1225440"/>
                    <a:ext cx="21682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31"/>
          <p:cNvGraphicFramePr/>
          <p:nvPr/>
        </p:nvGraphicFramePr>
        <p:xfrm>
          <a:off x="5651640" y="1916280"/>
          <a:ext cx="1728720" cy="81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" name="Object 4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1640" y="1916280"/>
                    <a:ext cx="172872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432"/>
          <p:cNvGraphicFramePr/>
          <p:nvPr/>
        </p:nvGraphicFramePr>
        <p:xfrm>
          <a:off x="5651640" y="2852640"/>
          <a:ext cx="2305080" cy="784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" name="Object 43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51640" y="2852640"/>
                    <a:ext cx="23050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433"/>
          <p:cNvGraphicFramePr/>
          <p:nvPr/>
        </p:nvGraphicFramePr>
        <p:xfrm>
          <a:off x="5292720" y="3645000"/>
          <a:ext cx="2735280" cy="784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" name="Object 4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92720" y="3645000"/>
                    <a:ext cx="27352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434"/>
          <p:cNvGraphicFramePr/>
          <p:nvPr/>
        </p:nvGraphicFramePr>
        <p:xfrm>
          <a:off x="5437080" y="4365720"/>
          <a:ext cx="1871640" cy="80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" name="Object 43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37080" y="4365720"/>
                    <a:ext cx="18716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435"/>
          <p:cNvGraphicFramePr/>
          <p:nvPr/>
        </p:nvGraphicFramePr>
        <p:xfrm>
          <a:off x="5508720" y="5300640"/>
          <a:ext cx="2087640" cy="733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" name="Object 43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08720" y="5300640"/>
                    <a:ext cx="208764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436"/>
          <p:cNvGraphicFramePr/>
          <p:nvPr/>
        </p:nvGraphicFramePr>
        <p:xfrm>
          <a:off x="5651640" y="6124680"/>
          <a:ext cx="2089080" cy="733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1" name="Object 43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651640" y="6124680"/>
                    <a:ext cx="2089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0FA-12EF-4429-AC9D-DCB511A4E2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A1DA-9EC4-4FA9-87AD-A803A0F6DF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2771640" y="630864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структура бел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Picture 9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256600" cy="465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F46-1614-4722-83DA-39E48BAE45F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BFC2-7673-484C-B3DC-21D1325B9E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1840_308"/>
          <p:cNvPicPr/>
          <p:nvPr/>
        </p:nvPicPr>
        <p:blipFill>
          <a:blip r:embed="rId2"/>
          <a:stretch/>
        </p:blipFill>
        <p:spPr>
          <a:xfrm>
            <a:off x="971640" y="1628640"/>
            <a:ext cx="4727520" cy="51580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5867280" y="2276640"/>
            <a:ext cx="30258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– участок полипептидной цепи, соединенный водородными связями (зеленые пунктирные лини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 – условное изображение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структуры в форме плоской ленты, проходящей через атомы полимерной цепи (атомы водорода не показаны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C81A-BF29-4BED-93BB-BF4C4FE45F8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5721-CE86-4D56-972E-FD6E1185B9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Втор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900000" y="1989000"/>
            <a:ext cx="7632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торичная структура белка — это более высокий уровень структурной организации, в котором закрепление конформации происходит за счет водородных связей между пептидными группам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EFB-09B6-4CA3-B02A-FD3A16EC18D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1E81-4F07-4FB9-B407-45CE144A4D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Трет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6" descr="1840_309"/>
          <p:cNvPicPr/>
          <p:nvPr/>
        </p:nvPicPr>
        <p:blipFill>
          <a:blip r:embed="rId2"/>
          <a:stretch/>
        </p:blipFill>
        <p:spPr>
          <a:xfrm>
            <a:off x="179280" y="1773360"/>
            <a:ext cx="5256360" cy="50241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7"/>
          <p:cNvSpPr/>
          <p:nvPr/>
        </p:nvSpPr>
        <p:spPr>
          <a:xfrm>
            <a:off x="5651640" y="1844640"/>
            <a:ext cx="33480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РАЗЛИЧНЫЕ ВАРИАНТЫ ИЗОБРАЖЕНИЯ СТРУКТУРЫ БЕЛКА КРАМБИНА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А– структурная формула в пространственном изображении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Б – структура в виде объемной модели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В – третичная структура молекулы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Г – сочетание вариантов А и В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Д – упрощенное изображение третичной структуры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Е – третичная структура с дисульфидными мостиками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D09-338B-466E-80E7-579B61A39A1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1F38-2D59-45E2-A1F4-570682908F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Ионные взаимодейств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0" name="Object 6"/>
          <p:cNvGraphicFramePr/>
          <p:nvPr/>
        </p:nvGraphicFramePr>
        <p:xfrm>
          <a:off x="900000" y="2162160"/>
          <a:ext cx="8064720" cy="34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162160"/>
                    <a:ext cx="8064720" cy="34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7DD-BB98-4495-B832-846A58246B8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9E2B-8500-4342-BFA5-508DEAE26D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ru-RU" sz="2400" spc="-1" strike="noStrike">
                <a:solidFill>
                  <a:srgbClr val="e5ffff"/>
                </a:solidFill>
                <a:latin typeface="Tahoma"/>
              </a:rPr>
              <a:t>Дисульфидные взаимодейств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5" name="Object 5"/>
          <p:cNvGraphicFramePr/>
          <p:nvPr/>
        </p:nvGraphicFramePr>
        <p:xfrm>
          <a:off x="179280" y="2637000"/>
          <a:ext cx="8820360" cy="246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637000"/>
                    <a:ext cx="882036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DD6-59C0-44C0-AD6A-416B95A671D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32BB-BF43-4D63-A2FE-4403AD60A0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Глобулярные белк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0" name="Picture 6" descr="1840_310"/>
          <p:cNvPicPr/>
          <p:nvPr/>
        </p:nvPicPr>
        <p:blipFill>
          <a:blip r:embed="rId2"/>
          <a:stretch/>
        </p:blipFill>
        <p:spPr>
          <a:xfrm>
            <a:off x="539640" y="1700280"/>
            <a:ext cx="5400720" cy="49212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7"/>
          <p:cNvSpPr/>
          <p:nvPr/>
        </p:nvSpPr>
        <p:spPr>
          <a:xfrm>
            <a:off x="6388200" y="2193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156360" y="1916280"/>
            <a:ext cx="2700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ЛОБУЛЯРНАЯ СТРУКТУРА АЛЬБУМИ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белок куриного яйца). В структуре помимо дисульфидных мостиков присутствуют свободные сульфгидридные HS-группы цистеина, которые в процессе разложения белка легко образуют сероводород – источник запаха тухлых яиц. Дисульфидные мостики намного более устойчивы и при разложении белка сероводород не образуют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338-488A-45C4-ADBF-147D2F8DBC3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7F62-4C5D-4F94-8F88-326FA8CBF14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Фибриллярные белк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6388200" y="2193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7" name="Picture 7" descr="1840_311"/>
          <p:cNvPicPr/>
          <p:nvPr/>
        </p:nvPicPr>
        <p:blipFill>
          <a:blip r:embed="rId2"/>
          <a:stretch/>
        </p:blipFill>
        <p:spPr>
          <a:xfrm>
            <a:off x="684360" y="1916280"/>
            <a:ext cx="7993080" cy="38685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116000" y="6021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ИБРИЛЛЯРНЫЙ БЕЛОК ФИБРОИ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основной компонент натурального шелка и паути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87F-E8F2-48FE-9CDE-89EF7BFAFD1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2ECE-75C8-41DA-8467-7DE1565839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Четверт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2" name="Picture 6" descr="1840_312"/>
          <p:cNvPicPr/>
          <p:nvPr/>
        </p:nvPicPr>
        <p:blipFill>
          <a:blip r:embed="rId2"/>
          <a:stretch/>
        </p:blipFill>
        <p:spPr>
          <a:xfrm>
            <a:off x="900000" y="1773360"/>
            <a:ext cx="7559640" cy="43084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7"/>
          <p:cNvSpPr/>
          <p:nvPr/>
        </p:nvSpPr>
        <p:spPr>
          <a:xfrm>
            <a:off x="1042920" y="6165720"/>
            <a:ext cx="727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БРАЗОВАНИЕ ЧЕТВЕРТИЧНОЙ СТРУКТУРЫ ГЛОБУЛЯРНОГО БЕЛК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ферритина при объединении молекул в единый ансамбл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E66-850C-48D6-80FE-BF949FF51B3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8CF3-76B2-450B-AFE1-F53C7DAF17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Четвертичная структура белков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Picture 6" descr="1840_313"/>
          <p:cNvPicPr/>
          <p:nvPr/>
        </p:nvPicPr>
        <p:blipFill>
          <a:blip r:embed="rId2"/>
          <a:stretch/>
        </p:blipFill>
        <p:spPr>
          <a:xfrm>
            <a:off x="826920" y="1773360"/>
            <a:ext cx="5688360" cy="496404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8"/>
          <p:cNvSpPr/>
          <p:nvPr/>
        </p:nvSpPr>
        <p:spPr>
          <a:xfrm>
            <a:off x="6588000" y="1943280"/>
            <a:ext cx="24926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АДМОЛЕКУЛЯРНАЯ СТРУКТУРА ФИБРИЛЛЯРНОГО БЕЛКА КОЛЛАГЕНА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На примере коллагена можно видеть, что в образовании фибриллярных белков могут участвовать как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спирали, так и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структуры. То же и для глобулярных белков, в них могут быть оба типа третичных структу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C73-C7ED-40DE-AA17-633BB006C03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54BD-D00D-4FC9-BCB8-FED7A909FA2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280" y="189000"/>
          <a:ext cx="8785440" cy="6192720"/>
        </p:xfrm>
        <a:graphic>
          <a:graphicData uri="http://schemas.openxmlformats.org/drawingml/2006/table">
            <a:tbl>
              <a:tblPr/>
              <a:tblGrid>
                <a:gridCol w="2305080"/>
                <a:gridCol w="1943280"/>
                <a:gridCol w="3600360"/>
                <a:gridCol w="936720"/>
              </a:tblGrid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кращ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уктурная форму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I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араг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утаминовая кисл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l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з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гин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Object 151"/>
          <p:cNvGraphicFramePr/>
          <p:nvPr/>
        </p:nvGraphicFramePr>
        <p:xfrm>
          <a:off x="4788000" y="1484280"/>
          <a:ext cx="2879640" cy="8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15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484280"/>
                    <a:ext cx="2879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53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7" name="Object 154"/>
          <p:cNvGraphicFramePr/>
          <p:nvPr/>
        </p:nvGraphicFramePr>
        <p:xfrm>
          <a:off x="4572000" y="2781360"/>
          <a:ext cx="3168720" cy="857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" name="Object 15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781360"/>
                    <a:ext cx="31687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55"/>
          <p:cNvGraphicFramePr/>
          <p:nvPr/>
        </p:nvGraphicFramePr>
        <p:xfrm>
          <a:off x="4140360" y="4037040"/>
          <a:ext cx="3816360" cy="831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0" name="Object 15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40360" y="4037040"/>
                    <a:ext cx="381636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158"/>
          <p:cNvGraphicFramePr/>
          <p:nvPr/>
        </p:nvGraphicFramePr>
        <p:xfrm>
          <a:off x="3852720" y="5361120"/>
          <a:ext cx="4319640" cy="1092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2" name="Object 15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2720" y="5361120"/>
                    <a:ext cx="431964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31A4-255E-47E5-BE39-D27709C197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604B-291A-4B6E-941A-D6FDCE83B48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br>
              <a:rPr sz="3100"/>
            </a:br>
            <a:br>
              <a:rPr sz="14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Денатурация белков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50920" y="1628640"/>
            <a:ext cx="338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енатурация белков — это разрушение их природной (нативной) пространственной структуры с сохранением первичной структур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8" descr="{B3BF94CD-4AA8-43A9-8533-3BCB13647A1D}"/>
          <p:cNvPicPr/>
          <p:nvPr/>
        </p:nvPicPr>
        <p:blipFill>
          <a:blip r:embed="rId2"/>
          <a:stretch/>
        </p:blipFill>
        <p:spPr>
          <a:xfrm>
            <a:off x="3887640" y="1601640"/>
            <a:ext cx="525636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FF8-913E-451C-9F41-0257B46EF3D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374C-943E-47B0-9F9D-3A37C215EB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5438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ffff"/>
                </a:solidFill>
                <a:latin typeface="Tahoma"/>
              </a:rPr>
              <a:t>Пептиды и белки </a:t>
            </a:r>
            <a:endParaRPr b="0" lang="en-US" sz="3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31112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Picture 6" descr="{FA2829D0-D221-4D2C-BB26-4EEA4C13DCD6}"/>
          <p:cNvPicPr/>
          <p:nvPr/>
        </p:nvPicPr>
        <p:blipFill>
          <a:blip r:embed="rId2"/>
          <a:stretch/>
        </p:blipFill>
        <p:spPr>
          <a:xfrm>
            <a:off x="2700360" y="1125360"/>
            <a:ext cx="3995640" cy="5400720"/>
          </a:xfrm>
          <a:prstGeom prst="rect">
            <a:avLst/>
          </a:prstGeom>
          <a:ln w="0">
            <a:noFill/>
          </a:ln>
        </p:spPr>
      </p:pic>
      <p:sp>
        <p:nvSpPr>
          <p:cNvPr id="328" name="Рамка 5"/>
          <p:cNvSpPr/>
          <p:nvPr/>
        </p:nvSpPr>
        <p:spPr>
          <a:xfrm>
            <a:off x="3714840" y="0"/>
            <a:ext cx="2286000" cy="428760"/>
          </a:xfrm>
          <a:prstGeom prst="pi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Prezentacii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CC1-7ADB-4C44-8539-F2884EF88A0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120B-934A-41B3-B245-A58B812AE8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9280" y="189000"/>
          <a:ext cx="8785440" cy="6275160"/>
        </p:xfrm>
        <a:graphic>
          <a:graphicData uri="http://schemas.openxmlformats.org/drawingml/2006/table">
            <a:tbl>
              <a:tblPr/>
              <a:tblGrid>
                <a:gridCol w="1944720"/>
                <a:gridCol w="2087640"/>
                <a:gridCol w="3816360"/>
                <a:gridCol w="936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кращ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уктурная форму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I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истид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роз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y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исте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y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Object 100"/>
          <p:cNvGraphicFramePr/>
          <p:nvPr/>
        </p:nvGraphicFramePr>
        <p:xfrm>
          <a:off x="4572000" y="981000"/>
          <a:ext cx="3313080" cy="15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10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981000"/>
                    <a:ext cx="331308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05"/>
          <p:cNvGraphicFramePr/>
          <p:nvPr/>
        </p:nvGraphicFramePr>
        <p:xfrm>
          <a:off x="4211640" y="2852640"/>
          <a:ext cx="3816360" cy="115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Object 10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1640" y="2852640"/>
                    <a:ext cx="381636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10"/>
          <p:cNvGraphicFramePr/>
          <p:nvPr/>
        </p:nvGraphicFramePr>
        <p:xfrm>
          <a:off x="4859280" y="4653000"/>
          <a:ext cx="2952720" cy="116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Object 1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59280" y="4653000"/>
                    <a:ext cx="29527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7F3-9811-4BD1-A763-5116C86D4F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4DF2-7A1C-41AC-A7DB-48C5BF2B246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Незаменимые аминокислот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Незаменимым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называются аминокислоты, которые не могут быть синтезированы организмом из веществ, поступающих с пищей, в количествах, достаточных для того, чтобы удовлетворить физиологические потребности организм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380-178D-42E0-B2E2-A1FBC30D87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B89B-B671-419A-A37D-58CC2789B6B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Незаменимые аминокислот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едующие аминокислоты принято считать незаменимыми для организма человека: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золейцин, лейцин, лизин, метионин, фенилаланин, треонин, триптофан и валин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D13-E10E-475C-AE25-3184008188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50D1-54E2-4D8C-96D8-8F76D5CC5B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Кислотно-основные свойств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179280" y="2276640"/>
          <a:ext cx="8856720" cy="325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276640"/>
                    <a:ext cx="8856720" cy="32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8839-9AAC-4E27-80C5-7A401F7CCF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8:02:51Z</dcterms:created>
  <dc:creator>Markin</dc:creator>
  <dc:description/>
  <dc:language>en-US</dc:language>
  <cp:lastModifiedBy>Student</cp:lastModifiedBy>
  <dcterms:modified xsi:type="dcterms:W3CDTF">2013-05-03T09:24:56Z</dcterms:modified>
  <cp:revision>116</cp:revision>
  <dc:subject/>
  <dc:title>Аминокислоты и белки</dc:title>
</cp:coreProperties>
</file>